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25340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90512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2534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2534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90512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90512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2534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2534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2534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8686800" cy="44956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0000" y="190512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6711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90512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28600" y="42534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8686800" cy="44956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90512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0000" y="42534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90512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25340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28600" y="425340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90512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42534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0000" y="42534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65840" y="190512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02720" y="190512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28600" y="42534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65840" y="42534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02720" y="42534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90512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6711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90512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2534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90512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2534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90512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25340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91320" y="-360"/>
            <a:ext cx="312408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82e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838080"/>
            <a:ext cx="8610480" cy="56390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 algn="ctr">
              <a:spcBef>
                <a:spcPts val="11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2" marL="1017000" indent="-203400" algn="ctr">
              <a:spcBef>
                <a:spcPts val="11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3" marL="1424160" indent="-203400" algn="ctr">
              <a:spcBef>
                <a:spcPts val="11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4" marL="1830960" indent="-203400" algn="ctr">
              <a:spcBef>
                <a:spcPts val="1100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5" marL="1830960" indent="-203400" algn="ctr">
              <a:spcBef>
                <a:spcPts val="1100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6" marL="1830960" indent="-203400" algn="ctr">
              <a:spcBef>
                <a:spcPts val="1100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438280" y="6518160"/>
            <a:ext cx="4114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0e500"/>
                </a:solidFill>
                <a:latin typeface="Verdana"/>
              </a:rPr>
              <a:t>Used by Permiss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82e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82e"/>
                </a:solidFill>
                <a:latin typeface="Verdana"/>
              </a:rPr>
              <a:t>How Awesome is the Lord Most High</a:t>
            </a:r>
            <a:endParaRPr b="1" lang="en-US" sz="4400" spc="-1" strike="noStrike">
              <a:solidFill>
                <a:srgbClr val="fff82e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8686800" cy="44956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Great are You, Lor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Mighty in strength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You are faithful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You will ever be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28600" y="533520"/>
            <a:ext cx="8686800" cy="58672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e will praise You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ll of our day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t's for Your glory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e offer everything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28600" y="533520"/>
            <a:ext cx="8686800" cy="58672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Raise your hands,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all you nations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Shout to God all creation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How awesome is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the Lord most high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228600" y="533520"/>
            <a:ext cx="8686800" cy="58672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here You send u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God, we will go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You're the answe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e want the world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o know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533520"/>
            <a:ext cx="8686800" cy="58672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e will trust You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hen You call our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nam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here You lead u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e'll follow all the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ay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28600" y="533520"/>
            <a:ext cx="8686800" cy="58672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Raise your hands,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all you nations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Shout to God all creation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How awesome is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the Lord most high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8686800" cy="44956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e will praise You togethe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For now and foreve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ow awesome is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he Lord most high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8686800" cy="44956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Verdana"/>
              </a:rPr>
              <a:t>Hallelujah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allelujah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ow awesome is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he Lord most high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533520"/>
            <a:ext cx="8686800" cy="58672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aise your hands,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l you nation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hout to God all creatio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w awesome i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Lord most hig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 will praise You togethe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r now and foreve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w awesome i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Lord most hig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(Out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6:05:18Z</dcterms:created>
  <dc:creator>Peter Rivezzo</dc:creator>
  <dc:description/>
  <dc:language>en-US</dc:language>
  <cp:lastModifiedBy>Peter Rivezzo</cp:lastModifiedBy>
  <dcterms:modified xsi:type="dcterms:W3CDTF">2010-03-02T06:05:30Z</dcterms:modified>
  <cp:revision>1</cp:revision>
  <dc:subject/>
  <dc:title>How Awesome is the Lord Most High</dc:title>
</cp:coreProperties>
</file>